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4C8-6DED-4DE6-95EF-942C7221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6A4-6C7F-420E-9B10-0DA80CC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EC0-389D-4312-A2B4-CB218D78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A46-A1B5-4160-9465-48E86037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CB43D-8AE4-41C6-A833-9FB8ED07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98AF8-84BF-4487-9221-C70A81D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D4FD8-AF7B-4F4E-A8EF-0DD9E85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6B036-DA3A-45BE-B626-A155E46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72B05-EF77-4461-BE15-46187CA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A350-0C79-454E-9F9E-C8E21F9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9299-E00D-49FE-9AB5-B6C0D239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3E2-980E-4328-9CEB-F855FA1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5A244-8B3E-47CB-A45D-E994BB3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F1221-71A2-4FB4-9776-7DFCA6B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4559E-FA1C-4286-8C73-0EE3CDC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5057-2F0F-4530-A976-CC60762A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8CBC1-38B3-4AF2-83FA-35C3AE7E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172-E9F4-45EB-BEEB-F1F558E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AB7-0A22-4A27-8566-05C7822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1E7-726F-4C30-9CAC-C1BCAC95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D02-F662-478D-A7C5-A565FAC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64E-41F9-4AFB-BFF3-D30C4CBD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78A-6186-490B-AE6F-F4F47D2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A46-8618-412E-AEBB-5B59DA6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A3D-187C-4B40-BBBF-3EC153211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DD0D-C48A-4C5E-B69D-C46890115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DNA finger pr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restriction enzymes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estriction enzymes used in DNA finger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08:16Z</dcterms:created>
  <dc:creator>URI</dc:creator>
  <dc:description/>
  <dc:language>en-US</dc:language>
  <cp:lastModifiedBy>URI</cp:lastModifiedBy>
  <dcterms:modified xsi:type="dcterms:W3CDTF">2009-12-22T22:09:11Z</dcterms:modified>
  <cp:revision>3</cp:revision>
  <dc:subject/>
  <dc:title>Slide 1</dc:title>
</cp:coreProperties>
</file>